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.png" ContentType="image/png"/>
  <Override PartName="/ppt/media/image34.gif" ContentType="image/gi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B3B-6199-4BB7-8F05-236C07F1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05C-8A6E-4007-9018-6881361C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B20-933E-443D-9EBA-1301EB34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CA-5CE9-40AE-BC1B-5F3B37C3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D96-608A-4F74-BCDB-7C7D4207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F80A-D2B4-4B20-9C66-10F96769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9FE-B707-4A1A-83A8-1D0C16A4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EAA1-232A-47AB-9048-2004301E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E5B2-221F-4D94-BAB9-B15A5F50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ED4-07B1-4915-8EB5-17CCC060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4522-56A6-4CCE-817B-BF66603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30D-BCB3-4803-B62D-359CB60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19F-3DEA-4D27-998A-F234A2E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787-30A6-499E-8E16-6E687590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50E9-1F8C-4B0E-9531-2812FC69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95AE-9B7B-4E79-843B-C70E5C4C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7891-C3DD-4EB0-A576-7A91A84C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EBF-7DBF-4D7D-87EA-2BD5D86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2A5-5412-4F78-9CF1-DB9AADEA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82C-B2AD-4F5D-94D2-DA44A343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7FD-D6AC-40B1-BA9E-FE803D5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CC0-6DA0-4DBA-9226-ED2E0AB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E72-B9C5-4EC2-956D-AFC795A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F41-941B-4C90-A004-383E431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068-19E8-4422-A255-9D4653D91A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DA36-41E0-450F-A6CF-C6F2583B6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carbon-141.htm" TargetMode="External"/><Relationship Id="rId2" Type="http://schemas.openxmlformats.org/officeDocument/2006/relationships/hyperlink" Target="http://video.google.com/videosearch?q=carbon+dating&amp;hl=en&amp;emb=0&amp;aq=f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iochemist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1876320"/>
            <a:ext cx="4572000" cy="374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27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2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27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3352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5520" y="4876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76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ity is measured with the pH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 1 2 3 4 5 6 7 8 9 10 11 12 13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: substance that releases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: substance that releases O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¯ 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2860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362320"/>
            <a:ext cx="2743200" cy="533160"/>
          </a:xfrm>
          <a:prstGeom prst="leftArrow">
            <a:avLst>
              <a:gd name="adj1" fmla="val 50000"/>
              <a:gd name="adj2" fmla="val 12862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362320"/>
            <a:ext cx="2971800" cy="561960"/>
          </a:xfrm>
          <a:prstGeom prst="rightArrow">
            <a:avLst>
              <a:gd name="adj1" fmla="val 50000"/>
              <a:gd name="adj2" fmla="val 13220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0600" y="368316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09280" y="2921040"/>
            <a:ext cx="10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-6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62480" y="2921040"/>
            <a:ext cx="124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7.1-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Properties of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838080"/>
            <a:ext cx="6477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it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equal e-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) wat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Bonds: weak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esion: stick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hesion: stick to another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llary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324480" y="819000"/>
            <a:ext cx="2819520" cy="2355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72200" y="3352680"/>
            <a:ext cx="3022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2b2b2"/>
                </a:solidFill>
                <a:latin typeface="Arial"/>
              </a:rPr>
              <a:t>Biomolecule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arbohydr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ipi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biomolecules have long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ins (some longer than ot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v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S (single molecules) that when bonded together make bigger biomolecules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O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Methane.gif (4691 bytes)"/>
          <p:cNvPicPr/>
          <p:nvPr/>
        </p:nvPicPr>
        <p:blipFill>
          <a:blip r:embed="rId1"/>
          <a:stretch/>
        </p:blipFill>
        <p:spPr>
          <a:xfrm>
            <a:off x="1963800" y="1600200"/>
            <a:ext cx="4741920" cy="495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2900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914400"/>
            <a:ext cx="213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n form 4 different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175248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foundation for the major molecules of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ropane" descr="Propane.JPG (10177 bytes)"/>
          <p:cNvPicPr/>
          <p:nvPr/>
        </p:nvPicPr>
        <p:blipFill>
          <a:blip r:embed="rId1"/>
          <a:stretch/>
        </p:blipFill>
        <p:spPr>
          <a:xfrm>
            <a:off x="304920" y="457200"/>
            <a:ext cx="4952880" cy="5562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15000" y="68580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bon can form long chains with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2590920"/>
            <a:ext cx="4343400" cy="39621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904320 h 3962160"/>
              <a:gd name="textAreaBottom" fmla="*/ 3057840 h 3962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mic Sans MS"/>
              </a:rPr>
              <a:t>A lot of energy can be stored in these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7010640" cy="4017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438280" y="3705120"/>
            <a:ext cx="4343400" cy="31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5409720" y="3048120"/>
            <a:ext cx="1295640" cy="137160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962520"/>
            <a:ext cx="1600200" cy="253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is green in thi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cromolec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9480"/>
            <a:ext cx="60958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Carbon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 4 covalent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with itself forming straight chains, branched chains, or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form single, double, or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533520"/>
            <a:ext cx="304812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2269" t="2560" r="2269" b="6486"/>
          <a:stretch/>
        </p:blipFill>
        <p:spPr>
          <a:xfrm>
            <a:off x="0" y="4724280"/>
            <a:ext cx="640080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451560" y="2895480"/>
            <a:ext cx="269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hydration Synthesis=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ymer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163" t="0" r="7566" b="15388"/>
          <a:stretch/>
        </p:blipFill>
        <p:spPr>
          <a:xfrm>
            <a:off x="457200" y="4344840"/>
            <a:ext cx="8077320" cy="2513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80480" y="4089240"/>
            <a:ext cx="2250360" cy="579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39560" y="3814200"/>
            <a:ext cx="329580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onomers Bond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46483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724280"/>
            <a:ext cx="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932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abolic re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s poly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omer + Monomer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olymer + Wa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basic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that cannot be broken down into simpler chemical substances.  Contains ONLY ONE TYPE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, H, O, N --&gt; make up &gt;96% of human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elements --&gt; Ca, Mg, Na, K …  cannot live without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mallest particle of an element that maintains the characteristics of that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219320"/>
            <a:ext cx="9144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abolic re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duces mon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) Polysaccharide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lymer + Water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nomer + Mono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ydro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125" t="13336" r="6012" b="7646"/>
          <a:stretch/>
        </p:blipFill>
        <p:spPr>
          <a:xfrm>
            <a:off x="0" y="425772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89960" y="3936960"/>
            <a:ext cx="1558440" cy="579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7800" y="3661920"/>
            <a:ext cx="376380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polymer i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mon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495680"/>
            <a:ext cx="9907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4572000"/>
            <a:ext cx="22860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monosaccha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, H,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: 2H : 1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saccharide: glucose, fruct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ccharide: sucrose, galactos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saccharide: starch (depends on number of C in cha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(in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32004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onosaccharides: Is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2695" t="0" r="1295" b="1130"/>
          <a:stretch/>
        </p:blipFill>
        <p:spPr>
          <a:xfrm>
            <a:off x="0" y="4343400"/>
            <a:ext cx="815328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784680"/>
            <a:ext cx="6629400" cy="57960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Glucose, Fructose, Galact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0"/>
            <a:ext cx="8229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arbohydr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585720"/>
            <a:ext cx="4191120" cy="2773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44920" y="766080"/>
            <a:ext cx="3823200" cy="5205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saccharide: St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7240" y="2518560"/>
            <a:ext cx="4298400" cy="52056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osaccharide: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76920" y="1828440"/>
            <a:ext cx="30456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28195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990720"/>
            <a:ext cx="114300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pid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1 glycerol and 3 fatty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. H,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: &gt;2H : 1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s, waxes, stero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ulation (warm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(more than carb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hioning/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spholipids in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0" t="0" r="0" b="10072"/>
          <a:stretch/>
        </p:blipFill>
        <p:spPr>
          <a:xfrm>
            <a:off x="228600" y="1752480"/>
            <a:ext cx="8915400" cy="4343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232560"/>
            <a:ext cx="9144000" cy="642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Glycero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3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atty Acids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Trigycer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838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838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r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bonds are SI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⁭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sk for C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quid at room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or more bonds are do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nounsaturated, polyunsatu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8400" t="5937" r="5511" b="1948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990720" y="3276720"/>
            <a:ext cx="4724280" cy="228600"/>
          </a:xfrm>
          <a:prstGeom prst="rightArrow">
            <a:avLst>
              <a:gd name="adj1" fmla="val 50000"/>
              <a:gd name="adj2" fmla="val 51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99072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886200" y="1905120"/>
            <a:ext cx="175248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762120"/>
            <a:ext cx="3733920" cy="228600"/>
          </a:xfrm>
          <a:prstGeom prst="rightArrow">
            <a:avLst>
              <a:gd name="adj1" fmla="val 50000"/>
              <a:gd name="adj2" fmla="val 40834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4760" y="60948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One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75120" y="1490760"/>
            <a:ext cx="32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one doubl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3124080"/>
            <a:ext cx="357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 SING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5486400" cy="3105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486400" cy="310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943600" y="762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267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estoster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438280"/>
            <a:ext cx="281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rbons are Gr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tei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amino 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mino acids have CARBOXYL and AMINO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teins (co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: C, H, O,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and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s: speed up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bodies: defen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al: building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globin: carry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brane proteins: channels and p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s have very specific shapes.  Their FUNCTION is dependant on their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to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s protons (+) and neutrons (no char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viest part of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 of protons makes each atom u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s 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 in clouds around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energy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er shell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ence s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have neutral charge (equal number of protons and electr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#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#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ic ma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# protons + #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rot="19094400">
            <a:off x="5924160" y="2810880"/>
            <a:ext cx="30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t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33520"/>
            <a:ext cx="50292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eptide: 2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peptide: 3-100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: 100-1000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9579" t="8669" r="6596" b="30649"/>
          <a:stretch/>
        </p:blipFill>
        <p:spPr>
          <a:xfrm>
            <a:off x="6324480" y="533520"/>
            <a:ext cx="2819520" cy="1692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199040" y="994680"/>
            <a:ext cx="197892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lyc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3120" y="2289960"/>
            <a:ext cx="118800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04160" y="3960"/>
            <a:ext cx="1524960" cy="5205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1000" y="2289960"/>
            <a:ext cx="1585800" cy="520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xy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781680" y="1752480"/>
            <a:ext cx="0" cy="5335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533520"/>
            <a:ext cx="38088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8534520" y="1828800"/>
            <a:ext cx="0" cy="4572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335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rcRect l="7121" t="0" r="4886" b="25643"/>
          <a:stretch/>
        </p:blipFill>
        <p:spPr>
          <a:xfrm>
            <a:off x="6400800" y="2819520"/>
            <a:ext cx="2743200" cy="1768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086600" y="533520"/>
            <a:ext cx="533520" cy="2438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2819520"/>
            <a:ext cx="0" cy="68580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819520"/>
            <a:ext cx="152640" cy="6858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99040" y="3204720"/>
            <a:ext cx="1978920" cy="947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no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an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81952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rcRect l="0" t="0" r="6665" b="21055"/>
          <a:stretch/>
        </p:blipFill>
        <p:spPr>
          <a:xfrm>
            <a:off x="0" y="4572000"/>
            <a:ext cx="85345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7920" y="4042440"/>
            <a:ext cx="4019760" cy="5205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de Bond: Dipept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572000"/>
            <a:ext cx="22100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rotein</a:t>
            </a:r>
            <a:r>
              <a:rPr b="0" lang="en-US" sz="4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Amino Acid Relationship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ino Ac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6858000" cy="3881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60640" y="5562720"/>
            <a:ext cx="33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trogen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2895120" y="4114800"/>
            <a:ext cx="2286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9144000" cy="5175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14800" y="304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otein in muscle 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1067040" cy="603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" y="32004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e amino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85440" y="2209680"/>
            <a:ext cx="15228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2400" cy="4398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057400" y="4876920"/>
            <a:ext cx="4952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mogl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ach red blood cell contains hundr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zy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ENZYMES ARE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s are CATALY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peed up reactions without being used up in those rea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lower the ACTIVATION ENERGY needed for 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VERY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HAS A SPECIFIC ENZYME THAT HELPS IT HA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nzymes (co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ck and key the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rate (k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e enzyme work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zyme (loc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e site: part of enzyme that binds to sub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511520" cy="594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242120" y="1911240"/>
            <a:ext cx="973080" cy="9720"/>
          </a:xfrm>
          <a:custGeom>
            <a:avLst/>
            <a:gdLst/>
            <a:ahLst/>
            <a:rect l="l" t="t" r="r" b="b"/>
            <a:pathLst>
              <a:path w="2704" h="26">
                <a:moveTo>
                  <a:pt x="20117" y="5333"/>
                </a:moveTo>
                <a:cubicBezTo>
                  <a:pt x="20200" y="5333"/>
                  <a:pt x="20282" y="5333"/>
                  <a:pt x="20365" y="5333"/>
                </a:cubicBezTo>
                <a:cubicBezTo>
                  <a:pt x="20390" y="5318"/>
                  <a:pt x="20386" y="5311"/>
                  <a:pt x="20439" y="5308"/>
                </a:cubicBezTo>
                <a:cubicBezTo>
                  <a:pt x="21228" y="5262"/>
                  <a:pt x="22030" y="5308"/>
                  <a:pt x="22820" y="530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0040" y="1982880"/>
            <a:ext cx="965160" cy="1440"/>
          </a:xfrm>
          <a:custGeom>
            <a:avLst/>
            <a:gdLst/>
            <a:ahLst/>
            <a:rect l="l" t="t" r="r" b="b"/>
            <a:pathLst>
              <a:path w="2680" h="1">
                <a:moveTo>
                  <a:pt x="20141" y="5507"/>
                </a:moveTo>
                <a:cubicBezTo>
                  <a:pt x="21034" y="5507"/>
                  <a:pt x="21927" y="5507"/>
                  <a:pt x="22820" y="550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35880" y="2143080"/>
            <a:ext cx="492120" cy="1800"/>
          </a:xfrm>
          <a:custGeom>
            <a:avLst/>
            <a:gdLst/>
            <a:ahLst/>
            <a:rect l="l" t="t" r="r" b="b"/>
            <a:pathLst>
              <a:path w="1365" h="1">
                <a:moveTo>
                  <a:pt x="20935" y="5953"/>
                </a:moveTo>
                <a:cubicBezTo>
                  <a:pt x="21390" y="5953"/>
                  <a:pt x="21844" y="5953"/>
                  <a:pt x="22299" y="595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34040" y="3857760"/>
            <a:ext cx="965160" cy="17280"/>
          </a:xfrm>
          <a:custGeom>
            <a:avLst/>
            <a:gdLst/>
            <a:ahLst/>
            <a:rect l="l" t="t" r="r" b="b"/>
            <a:pathLst>
              <a:path w="2680" h="50">
                <a:moveTo>
                  <a:pt x="17041" y="10765"/>
                </a:moveTo>
                <a:cubicBezTo>
                  <a:pt x="17264" y="10765"/>
                  <a:pt x="17505" y="10773"/>
                  <a:pt x="17711" y="10740"/>
                </a:cubicBezTo>
                <a:cubicBezTo>
                  <a:pt x="17735" y="10740"/>
                  <a:pt x="17744" y="10740"/>
                  <a:pt x="17760" y="10740"/>
                </a:cubicBezTo>
                <a:cubicBezTo>
                  <a:pt x="17783" y="10727"/>
                  <a:pt x="17784" y="10718"/>
                  <a:pt x="17835" y="10716"/>
                </a:cubicBezTo>
                <a:cubicBezTo>
                  <a:pt x="18460" y="10688"/>
                  <a:pt x="19094" y="10716"/>
                  <a:pt x="19720" y="107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05680" y="3956040"/>
            <a:ext cx="893520" cy="9360"/>
          </a:xfrm>
          <a:custGeom>
            <a:avLst/>
            <a:gdLst/>
            <a:ahLst/>
            <a:rect l="l" t="t" r="r" b="b"/>
            <a:pathLst>
              <a:path w="2482" h="26">
                <a:moveTo>
                  <a:pt x="17239" y="10988"/>
                </a:moveTo>
                <a:cubicBezTo>
                  <a:pt x="17812" y="10988"/>
                  <a:pt x="19260" y="10737"/>
                  <a:pt x="19720" y="1101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56240" y="4098960"/>
            <a:ext cx="473040" cy="1440"/>
          </a:xfrm>
          <a:custGeom>
            <a:avLst/>
            <a:gdLst/>
            <a:ahLst/>
            <a:rect l="l" t="t" r="r" b="b"/>
            <a:pathLst>
              <a:path w="1315" h="1">
                <a:moveTo>
                  <a:pt x="17934" y="11385"/>
                </a:moveTo>
                <a:cubicBezTo>
                  <a:pt x="18372" y="11385"/>
                  <a:pt x="18810" y="11385"/>
                  <a:pt x="19248" y="1138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02680" y="5643720"/>
            <a:ext cx="901440" cy="36360"/>
          </a:xfrm>
          <a:custGeom>
            <a:avLst/>
            <a:gdLst/>
            <a:ahLst/>
            <a:rect l="l" t="t" r="r" b="b"/>
            <a:pathLst>
              <a:path w="2506" h="100">
                <a:moveTo>
                  <a:pt x="20563" y="15776"/>
                </a:moveTo>
                <a:cubicBezTo>
                  <a:pt x="20596" y="15776"/>
                  <a:pt x="20629" y="15776"/>
                  <a:pt x="20662" y="15776"/>
                </a:cubicBezTo>
                <a:cubicBezTo>
                  <a:pt x="20670" y="15773"/>
                  <a:pt x="20727" y="15761"/>
                  <a:pt x="20762" y="15751"/>
                </a:cubicBezTo>
                <a:cubicBezTo>
                  <a:pt x="20800" y="15740"/>
                  <a:pt x="20814" y="15729"/>
                  <a:pt x="20861" y="15726"/>
                </a:cubicBezTo>
                <a:cubicBezTo>
                  <a:pt x="20940" y="15722"/>
                  <a:pt x="21010" y="15711"/>
                  <a:pt x="21084" y="15701"/>
                </a:cubicBezTo>
                <a:cubicBezTo>
                  <a:pt x="21135" y="15694"/>
                  <a:pt x="21192" y="15683"/>
                  <a:pt x="21233" y="15677"/>
                </a:cubicBezTo>
                <a:cubicBezTo>
                  <a:pt x="21813" y="15588"/>
                  <a:pt x="22481" y="15677"/>
                  <a:pt x="23068" y="15677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92960" y="5749920"/>
            <a:ext cx="903240" cy="1440"/>
          </a:xfrm>
          <a:custGeom>
            <a:avLst/>
            <a:gdLst/>
            <a:ahLst/>
            <a:rect l="l" t="t" r="r" b="b"/>
            <a:pathLst>
              <a:path w="2507" h="1">
                <a:moveTo>
                  <a:pt x="20538" y="15974"/>
                </a:moveTo>
                <a:cubicBezTo>
                  <a:pt x="21373" y="15974"/>
                  <a:pt x="22209" y="15974"/>
                  <a:pt x="23044" y="1597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43880" y="5875200"/>
            <a:ext cx="482400" cy="27000"/>
          </a:xfrm>
          <a:custGeom>
            <a:avLst/>
            <a:gdLst/>
            <a:ahLst/>
            <a:rect l="l" t="t" r="r" b="b"/>
            <a:pathLst>
              <a:path w="1340" h="76">
                <a:moveTo>
                  <a:pt x="21233" y="16396"/>
                </a:moveTo>
                <a:cubicBezTo>
                  <a:pt x="21308" y="16396"/>
                  <a:pt x="21367" y="16390"/>
                  <a:pt x="21406" y="16371"/>
                </a:cubicBezTo>
                <a:cubicBezTo>
                  <a:pt x="21441" y="16353"/>
                  <a:pt x="21516" y="16349"/>
                  <a:pt x="21555" y="16346"/>
                </a:cubicBezTo>
                <a:cubicBezTo>
                  <a:pt x="21616" y="16341"/>
                  <a:pt x="21649" y="16336"/>
                  <a:pt x="21679" y="16321"/>
                </a:cubicBezTo>
                <a:cubicBezTo>
                  <a:pt x="21868" y="16227"/>
                  <a:pt x="22349" y="16321"/>
                  <a:pt x="22572" y="16321"/>
                </a:cubicBezTo>
                <a:cubicBezTo>
                  <a:pt x="22504" y="16321"/>
                  <a:pt x="22456" y="16329"/>
                  <a:pt x="22399" y="16346"/>
                </a:cubicBezTo>
                <a:cubicBezTo>
                  <a:pt x="22289" y="16379"/>
                  <a:pt x="22156" y="16335"/>
                  <a:pt x="22051" y="16371"/>
                </a:cubicBezTo>
                <a:cubicBezTo>
                  <a:pt x="21895" y="16424"/>
                  <a:pt x="21440" y="16371"/>
                  <a:pt x="21605" y="16371"/>
                </a:cubicBezTo>
                <a:cubicBezTo>
                  <a:pt x="21678" y="16371"/>
                  <a:pt x="21740" y="16366"/>
                  <a:pt x="21779" y="16346"/>
                </a:cubicBezTo>
                <a:cubicBezTo>
                  <a:pt x="21787" y="16346"/>
                  <a:pt x="21795" y="16346"/>
                  <a:pt x="21803" y="1634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90720" y="1355760"/>
            <a:ext cx="7010280" cy="55022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ctivation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ffect of enzym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90720" y="1255680"/>
            <a:ext cx="647676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380880"/>
          <a:ext cx="4038120" cy="3047760"/>
        </p:xfrm>
        <a:graphic>
          <a:graphicData uri="http://schemas.openxmlformats.org/drawingml/2006/table">
            <a:tbl>
              <a:tblPr/>
              <a:tblGrid>
                <a:gridCol w="2019240"/>
                <a:gridCol w="2018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.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380880"/>
          <a:ext cx="4571640" cy="304776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</a:tblGrid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H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.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286000" y="3581280"/>
          <a:ext cx="4495320" cy="3276000"/>
        </p:xfrm>
        <a:graphic>
          <a:graphicData uri="http://schemas.openxmlformats.org/drawingml/2006/table">
            <a:tbl>
              <a:tblPr/>
              <a:tblGrid>
                <a:gridCol w="2247480"/>
                <a:gridCol w="2247840"/>
              </a:tblGrid>
              <a:tr h="109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tomic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.9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ss 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mer: nucleo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: C, H, O, N,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and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NA: has genes (information to make prote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A: carries information from DNA to where proteins ar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Nucleotide &amp; D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2235240"/>
            <a:ext cx="5410080" cy="4381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6627960" y="1143000"/>
            <a:ext cx="2287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905120" y="380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mall Differences can make a Big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105520" cy="2889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4920" y="2057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tamin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4648320" cy="26305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400800" y="3657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pi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380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mall Differences can make a Big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800600" cy="2717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6212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ffe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3809880" y="3505320"/>
            <a:ext cx="5181840" cy="29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09588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co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n clou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s reside in clouds around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louds are at different energ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oud can hold up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co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oud can hold up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ence electr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umber of electrons in valence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etermine how many bonds that atom ma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6240" y="325080"/>
            <a:ext cx="762948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will bond with other atoms when this makes them more 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t completes their valence electron clo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ne atom gains electrons and another lose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val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toms shar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emical Bo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520"/>
            <a:ext cx="5334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343400" cy="586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20" y="384840"/>
            <a:ext cx="2338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27720" y="2362320"/>
            <a:ext cx="461628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18000" y="1299240"/>
            <a:ext cx="299088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lent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sotope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science.howstuffworks.com/carbon-141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video.google.com/videosearch?q=carbon+dating&amp;hl=en&amp;emb=0&amp;aq=f#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e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with atoms of 2 or more different elements that a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emic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ertie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unds joined by covalent bonds a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neven combination of substances in which element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r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venly distributed mixture in which one or more substances (solute) are evenly distributed in another substance (solv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57:42Z</dcterms:created>
  <dc:creator>Ignacio/Jayo</dc:creator>
  <dc:description/>
  <dc:language>en-US</dc:language>
  <cp:lastModifiedBy>jayoig</cp:lastModifiedBy>
  <dcterms:modified xsi:type="dcterms:W3CDTF">2010-11-02T16:46:50Z</dcterms:modified>
  <cp:revision>18</cp:revision>
  <dc:subject/>
  <dc:title>Biochemistry</dc:title>
</cp:coreProperties>
</file>